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017-95E7-49C6-BC06-C14D2FDB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1DE-7703-463A-AD7F-4D221D8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F16-C1EA-4619-8284-63D701C7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C33-51F1-4668-93DA-C3C2883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CBA-685E-4069-BE5D-A83E70C3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EC6-3A82-4AFF-A5CC-C7FC8F45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0F6-45C1-4C1D-870D-0BC4E163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A88-D8DE-435D-8305-2CE3D911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D14-396A-44E2-8B0C-18C1AB73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BF7C-9A2E-466B-91BE-804755CE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0B2-2363-426E-8576-EE72150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4FD-2EF5-494D-AE42-166B7DA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F1B9-43F8-419B-AAC2-25E31CC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CB9-0E3B-489F-AB02-0FA8022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E84-151A-48C3-A05E-E31FEA1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AC40-5A40-4B35-BCC7-1ED6096A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38E-13FD-426B-95EA-50C14FD5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996-6252-43C9-9204-205FD5B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7B8-5BFE-448D-A4C7-7A1F4E3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5B8-CEE6-4E7C-BAE3-0702863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E5E-0990-4FBC-B956-15A0486C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DD4-095B-485C-89E7-9AC9A88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D97-6FA9-4A67-8CF8-D4F59934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24D-50F7-4864-B327-049468A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2D3-B196-4E8E-B8F2-358B3487B3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404-E1DF-4AF1-A90D-F8B0F1178A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ordandistrict.org/" TargetMode="External"/><Relationship Id="rId2" Type="http://schemas.openxmlformats.org/officeDocument/2006/relationships/hyperlink" Target="http://www.jordandistrict.or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66"/>
                </a:solidFill>
                <a:latin typeface="SquireD"/>
              </a:rPr>
              <a:t>Internet Vocabulary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TE Intr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5197" r="0" b="0"/>
          <a:stretch/>
        </p:blipFill>
        <p:spPr>
          <a:xfrm>
            <a:off x="2819520" y="3809880"/>
            <a:ext cx="3657600" cy="26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UR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“address” of a website. Entering this address in the Address Bar will take you directly to a particular websit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: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arning: Do NOT type in an address if you aren’t sure it exists. You might see something you didn’t inten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-2077" r="37502" b="88547"/>
          <a:stretch/>
        </p:blipFill>
        <p:spPr>
          <a:xfrm>
            <a:off x="1447920" y="5410080"/>
            <a:ext cx="6095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WW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ld Wide Web – not all websites are on the World Wide Web, but most will require it in order to get in. Most websites begin with: http://www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Brows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program that allows you to interact with interne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is what you click on to get to the internet. There are several popular browser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tsca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efo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1295640" cy="11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516720" y="4251240"/>
          <a:ext cx="1092240" cy="10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4251240"/>
                    <a:ext cx="109224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43800" y="426708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arch Eng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ful servers that keep an index of information on the Internet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aho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k.c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5029200"/>
            <a:ext cx="3124080" cy="77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3048120" cy="118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1146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Net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etwork is a number of computers connected together to share information and hard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Local Area Network (LAN) is small, perhaps a few computers sharing a printer. A Wide Area Network (WAN) is large, with many computers linked between towns or countries. The Internet is a network of networks that circles the glob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rv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mputer that delivers information and software to other computers linked by a networ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websites must be uploaded to a server in order to be seen by the public on the websit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HTML Co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ode language used to create websites on the interne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bsites look very different when you see only the code. Every command has a code, such a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lt;a href&gt;http://www.yahoo.com&lt;/a&gt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the code for making a link to yaho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’s look at some more codes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jordandistrict.or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arching the Intern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will now learn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good information on the intern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arch for im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ve images to your compu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4:01:42Z</dcterms:created>
  <dc:creator>Megan.Rees</dc:creator>
  <dc:description/>
  <dc:language>en-US</dc:language>
  <cp:lastModifiedBy>Megan.Rees</cp:lastModifiedBy>
  <dcterms:modified xsi:type="dcterms:W3CDTF">2007-08-30T15:34:36Z</dcterms:modified>
  <cp:revision>7</cp:revision>
  <dc:subject/>
  <dc:title>Internet Vocabulary</dc:title>
</cp:coreProperties>
</file>